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38B-AAF9-4437-B47B-DFEB1A7B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BF0-45C4-4C6A-A94D-3E917E38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BF3-2B01-457C-A89C-DFD3F84F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2BE-BE34-4B1D-B0A1-9EFFF5B5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37D3-D95A-4745-A3F2-0AAC27E4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49EB-559D-42C5-87A7-805CC07B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893E-21D5-4637-B67D-11AEA6FA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E4D5-1263-4CF6-A78E-723F5BCE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519A-8B9E-4390-9905-FF0B570F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734B-8E41-44C3-919F-CBD3F78E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31CE-DC05-49B6-A72C-69F16F98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264-571F-4BA4-9911-41B5E7AD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744A-1EA8-411A-B585-21738450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5552-6337-4341-A7EC-F7D6B493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F857-D22C-4F37-B22A-2986911B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C2A1-FB97-4070-A59D-478A189D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0BEB-6DF9-48F9-93CE-B63F3267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E2C-DF82-44B4-B44B-6753AB31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ED5-9632-476D-962F-1FEF9D0F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041-3564-4EAF-9265-044A0337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602-7D4C-4366-A0CA-462456E7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E6E-18E2-44CD-AFF6-EA92DAFE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EF5-7A93-4EC3-AF56-98437FC6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1AB-62A8-4A08-9CE2-A6E398BE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CE78-BCF4-44F8-889E-889435F790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F7B1-FE38-4329-BEA9-2B5471EACE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oes money make the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orld go around?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449388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t Portfolio Present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acqueline Kurtz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ssessments contd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the assessment information helps me and my students plan for upcoming activities in the uni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will use this information to make certain my activities will help students comprehend econom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feedback or additional ideas I would lik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ent Objectives—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cat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BE—8130.021—Analyze evolving economic systems and their impact on global market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BE—8130.022—Describe the impact of global marketing on businesses in Americ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1</a:t>
            </a:r>
            <a:r>
              <a:rPr b="0" lang="en-US" sz="36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Century Skill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ormation and Media Literacy Skills—analyzing, accessing, managing, integrating, evaluating, and creating information in a variety of forms and medi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personal and Collaborative Skills—Demonstrating teamwork and leadership; adapting to varied roles and responsibilities, working productively with othe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ents will be able 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725400" y="3018240"/>
            <a:ext cx="757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evolving economic systems and their impact on global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7560" y="426636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the impact of global marketing on businesses in Ame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My Goals for the Cour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d ways to get my students more excited about economics and how it impacts their liv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arn how to implement project-based learning into my lessons on a regular basi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arn about different kinds of technology my students and I can us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are ideas with other teache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velop a network of teachers who continuously learn and use technolog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Goals for My Student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learn about economics and how it impacts their liv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develop good 2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century skil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become more independent learner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become lifelong learner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Request for feedback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ill my students be excited about economic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are some ways I can intrigue the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 you have creative ideas on assessment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do you think of my essential ques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Unit Summary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economy is how a nation chooses to use its resources to produce and distribute goods and services to provide for the needs and wants of its peopl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ations are interdependent because they do not produce everything they ne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national trade is the exchange of goods and services between nation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ssential Question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6900" spc="-1" strike="noStrike">
                <a:solidFill>
                  <a:srgbClr val="000000"/>
                </a:solidFill>
                <a:latin typeface="Verdana"/>
              </a:rPr>
              <a:t>Does money make the world go around?</a:t>
            </a:r>
            <a:endParaRPr b="0" lang="en-US" sz="6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Unit Question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y does an increase in the price of oil cause the price of groceries to increase 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type of economic philosophy does a socialistic country hav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does an economy grow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ere does globalization begin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y do we care about unemployment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do we measure international trad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ontent Question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scarc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infrastructur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international trad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are the three significant trade agreements and alliances that foster free trad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globaliza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es a country expor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ontent Questions (contd)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does a country get a trade deficit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is the trade deficit in the United Stat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are the three fundamental economic question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is capitalism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are the phases of a business cycl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is supply and demand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conomics in the World Around 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Verdana"/>
              </a:rPr>
              <a:t>What in the world does it mean and why do I care?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ssessments…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nk-pair-share with a neighbor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do you know about the business cycl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-W-L…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supply and demand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uging Student Needs Assess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urpose of the assess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determine what students already know about economic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What I want to learn from my student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 want to know what they know about economics and what they want to lear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How I have tried to promote higher-order thinking skill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 like to ask students why the price of oil influences the price of a hamburger at McDonald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7:02:20Z</dcterms:created>
  <dc:creator>Valued Gateway Client</dc:creator>
  <dc:description/>
  <dc:language>en-US</dc:language>
  <cp:lastModifiedBy>teacher</cp:lastModifiedBy>
  <dcterms:modified xsi:type="dcterms:W3CDTF">2009-04-10T19:50:51Z</dcterms:modified>
  <cp:revision>31</cp:revision>
  <dc:subject/>
  <dc:title>Economics</dc:title>
</cp:coreProperties>
</file>